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379512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47660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152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1248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152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1248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10920" y="62028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7660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0920" y="379512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7660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152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480" y="184464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092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152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480" y="3795120"/>
            <a:ext cx="24289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10920" y="62028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76600" y="379512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76600" y="1844640"/>
            <a:ext cx="368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3795120"/>
            <a:ext cx="7543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2" name="Rectangle 64"/>
          <p:cNvSpPr/>
          <p:nvPr/>
        </p:nvSpPr>
        <p:spPr>
          <a:xfrm>
            <a:off x="8686800" y="0"/>
            <a:ext cx="457200" cy="6858000"/>
          </a:xfrm>
          <a:prstGeom prst="rect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3" name="Line 68"/>
          <p:cNvSpPr/>
          <p:nvPr/>
        </p:nvSpPr>
        <p:spPr>
          <a:xfrm>
            <a:off x="0" y="1341360"/>
            <a:ext cx="8458200" cy="0"/>
          </a:xfrm>
          <a:prstGeom prst="line">
            <a:avLst/>
          </a:prstGeom>
          <a:ln w="1260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Group 6"/>
          <p:cNvGrpSpPr/>
          <p:nvPr/>
        </p:nvGrpSpPr>
        <p:grpSpPr>
          <a:xfrm>
            <a:off x="179280" y="260280"/>
            <a:ext cx="8358120" cy="6419880"/>
            <a:chOff x="179280" y="260280"/>
            <a:chExt cx="8358120" cy="6419880"/>
          </a:xfrm>
        </p:grpSpPr>
        <p:pic>
          <p:nvPicPr>
            <p:cNvPr id="41" name="Picture 1275" descr="CapNet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1728720" cy="71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1276" descr="undp_s"/>
            <p:cNvPicPr/>
            <p:nvPr/>
          </p:nvPicPr>
          <p:blipFill>
            <a:blip r:embed="rId3"/>
            <a:stretch/>
          </p:blipFill>
          <p:spPr>
            <a:xfrm>
              <a:off x="2050920" y="404640"/>
              <a:ext cx="320760" cy="6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9" descr="apfmcoul"/>
            <p:cNvPicPr/>
            <p:nvPr/>
          </p:nvPicPr>
          <p:blipFill>
            <a:blip r:embed="rId4"/>
            <a:stretch/>
          </p:blipFill>
          <p:spPr>
            <a:xfrm>
              <a:off x="2774880" y="260280"/>
              <a:ext cx="63972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Picture 10" descr="UNESCO-IHE"/>
            <p:cNvPicPr/>
            <p:nvPr/>
          </p:nvPicPr>
          <p:blipFill>
            <a:blip r:embed="rId5"/>
            <a:stretch/>
          </p:blipFill>
          <p:spPr>
            <a:xfrm>
              <a:off x="3708360" y="404640"/>
              <a:ext cx="2016000" cy="47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11" descr="redica"/>
            <p:cNvPicPr/>
            <p:nvPr/>
          </p:nvPicPr>
          <p:blipFill>
            <a:blip r:embed="rId6"/>
            <a:stretch/>
          </p:blipFill>
          <p:spPr>
            <a:xfrm>
              <a:off x="6012000" y="404640"/>
              <a:ext cx="96192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2" descr="rhama"/>
            <p:cNvPicPr/>
            <p:nvPr/>
          </p:nvPicPr>
          <p:blipFill>
            <a:blip r:embed="rId7"/>
            <a:stretch/>
          </p:blipFill>
          <p:spPr>
            <a:xfrm>
              <a:off x="7164360" y="404640"/>
              <a:ext cx="1373040" cy="48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3" descr="Copy of European_flag_svg"/>
            <p:cNvPicPr/>
            <p:nvPr/>
          </p:nvPicPr>
          <p:blipFill>
            <a:blip r:embed="rId8"/>
            <a:stretch/>
          </p:blipFill>
          <p:spPr>
            <a:xfrm>
              <a:off x="179280" y="6237360"/>
              <a:ext cx="666720" cy="44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babe90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8383ad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176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76720" y="1773000"/>
            <a:ext cx="54720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66"/>
                </a:solidFill>
                <a:latin typeface="Trebuchet MS"/>
              </a:rPr>
              <a:t>La GIRE: un outil d’adaptation au changement climatiqu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7" name="AutoShape 8"/>
          <p:cNvSpPr/>
          <p:nvPr/>
        </p:nvSpPr>
        <p:spPr>
          <a:xfrm flipH="1" flipV="1" rot="5400000">
            <a:off x="3383640" y="404640"/>
            <a:ext cx="2376360" cy="9144000"/>
          </a:xfrm>
          <a:prstGeom prst="pie">
            <a:avLst/>
          </a:pr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8383ad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rebuchet MS"/>
              </a:rPr>
              <a:t>Face aux incertitudes</a:t>
            </a:r>
            <a:endParaRPr b="0" lang="en-US" sz="3600" spc="-1" strike="noStrike">
              <a:solidFill>
                <a:srgbClr val="8383ad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daptation au cc dans l'incertitud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xé sur la prévision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aractérisation, réduction, gestion et communication de l’incertitud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ophistication croissante  des outils et techniques de modélisation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xé sur la résilience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s incertitudes ne peuvent pas être réduit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pprendre du passé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pproches axées sur la prévis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pproche d'IPCC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'information incertaine en employant des scénarios de cc comme facteurs d’incidence à partir desquels des stratégies d'adaptation sont élaborées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pproches de risques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dentifier, évaluer, choisir et mettre en application les actions pour réduire des risques (probabilité X conséquences)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Les cadres pour les  approches de risque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(Dessai et van der Sluijs, 2007)</a:t>
            </a:r>
            <a:br>
              <a:rPr sz="1600"/>
            </a:br>
            <a:endParaRPr b="0" lang="en-US" sz="14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dentifier les principales variables climatiqu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réer les scénarios/séries pour ces variabl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nalyse de sensibilité entre le cc et les incidenc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dentifier les seuils d'impact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Effectuer l'analyse de risqu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Évaluer le risque et identifier les rétroaction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onsulter les parties prenantes, analyser les adaptations proposées, recommander les options d'adaptation prévues 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rebuchet MS"/>
              </a:rPr>
              <a:t>Cadres pour les approches de risque-2-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(</a:t>
            </a:r>
            <a:r>
              <a:rPr b="0" i="1" lang="en-US" sz="1400" spc="-1" strike="noStrike">
                <a:solidFill>
                  <a:srgbClr val="006666"/>
                </a:solidFill>
                <a:latin typeface="Trebuchet MS"/>
              </a:rPr>
              <a:t>Al de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dix Brinkeet, 2008)</a:t>
            </a:r>
            <a:endParaRPr b="0" lang="en-US" sz="1400" spc="-1" strike="noStrike">
              <a:solidFill>
                <a:srgbClr val="006666"/>
              </a:solidFill>
              <a:latin typeface="Trebuchet MS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0920" y="1341360"/>
          <a:ext cx="8424720" cy="5489640"/>
        </p:xfrm>
        <a:graphic>
          <a:graphicData uri="http://schemas.openxmlformats.org/drawingml/2006/table">
            <a:tbl>
              <a:tblPr/>
              <a:tblGrid>
                <a:gridCol w="1473120"/>
                <a:gridCol w="1368360"/>
                <a:gridCol w="5583240"/>
              </a:tblGrid>
              <a:tr h="385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404176"/>
                          </a:solidFill>
                          <a:latin typeface="Trebuchet MS"/>
                        </a:rPr>
                        <a:t>Cycle de gestion des risques/Chaîne de sécurité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076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Gestion des risques 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Pro-ac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L'élimination des causes structurelles des accidents et des catastrophes afin de les empêcher de se produire en premier lieu (par exemple en délimitant les zones inondables) 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7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Préven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Prise de dispositions préalables visant à prévenir les accidents et catastrophes et limiter les conséquences qu’entraîneraient de tels évènements (par exemple la construction de digues et barrières)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973800">
                <a:tc rowSpan="3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Gestion des crises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Prépara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Prise de mesures pour assurer une préparation suffisante afin de faire face aux accidents et catastrophes au cas où ils interviendraient (par exemple planification d’urgence)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67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Réponse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Mesures actuelles pour faire face aux accidents et catastrophes (par exemple équipes de réponse)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125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Récupération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600" spc="-1" strike="noStrike">
                          <a:solidFill>
                            <a:srgbClr val="8383ad"/>
                          </a:solidFill>
                          <a:latin typeface="Trebuchet MS"/>
                          <a:ea typeface="Times New Roman"/>
                        </a:rPr>
                        <a:t>Toutes les activités qui permettent une récupération rapide des conséquences des accidents et catastrophes et assurant que tous les affectés peuvent retrouver leur situation « normale » et retrouver leur équilibre.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Book Antiqua"/>
                      </a:endParaRPr>
                    </a:p>
                  </a:txBody>
                  <a:tcPr anchor="t" marL="44280" marR="4428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adres pour les approches de risque-3- </a:t>
            </a:r>
            <a:r>
              <a:rPr b="0" lang="en-US" sz="1600" spc="-1" strike="noStrike">
                <a:solidFill>
                  <a:srgbClr val="006666"/>
                </a:solidFill>
                <a:latin typeface="Trebuchet MS"/>
              </a:rPr>
              <a:t>(PLANAT)</a:t>
            </a:r>
            <a:endParaRPr b="0" lang="en-US" sz="1600" spc="-1" strike="noStrike">
              <a:solidFill>
                <a:srgbClr val="006666"/>
              </a:solidFill>
              <a:latin typeface="Trebuchet MS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0" t="3726" r="3490" b="0"/>
          <a:stretch/>
        </p:blipFill>
        <p:spPr>
          <a:xfrm>
            <a:off x="1285920" y="1500120"/>
            <a:ext cx="6264360" cy="518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7899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adres pour les approches de risque-4-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(Sullivan et Meigh, 2005)</a:t>
            </a:r>
            <a:endParaRPr b="0" lang="en-US" sz="1400" spc="-1" strike="noStrike">
              <a:solidFill>
                <a:srgbClr val="006666"/>
              </a:solidFill>
              <a:latin typeface="Trebuchet MS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396720" y="1339920"/>
            <a:ext cx="792036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359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Approches  axées sur la résilience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(Dessai et van der Sluijs, 2007)</a:t>
            </a:r>
            <a:endParaRPr b="0" lang="en-US" sz="1400" spc="-1" strike="noStrike">
              <a:solidFill>
                <a:srgbClr val="006666"/>
              </a:solidFill>
              <a:latin typeface="Trebuchet MS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0" y="1343160"/>
            <a:ext cx="5435640" cy="285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2"/>
          <a:srcRect l="0" t="0" r="3952" b="0"/>
          <a:stretch/>
        </p:blipFill>
        <p:spPr>
          <a:xfrm>
            <a:off x="2448000" y="3983040"/>
            <a:ext cx="6696000" cy="28749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28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Objectifs de la session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280" y="1844640"/>
            <a:ext cx="7543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À la fin de cette session, les participants se familiariseront avec les incertitudes impliquées dans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646200" indent="-248400">
              <a:spcBef>
                <a:spcPts val="601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prévision des incidences du changement climatiqu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646200" indent="-248400">
              <a:spcBef>
                <a:spcPts val="601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daptation aux incidences prévues du changement climatique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Incertitudes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Une chose est certaine :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404176"/>
                </a:solidFill>
                <a:latin typeface="Trebuchet MS"/>
              </a:rPr>
              <a:t>Rien n'est certain</a:t>
            </a:r>
            <a:endParaRPr b="0" lang="en-US" sz="28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Dans cette session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ncertitude et changement climatiqu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omment faire face aux incertitud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Types d'incertitud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daptation au changement climatique sous l'incertitude :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approches axées sur la prévision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approches axées sur la résilience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rebuchet MS"/>
              </a:rPr>
              <a:t>Changement climatique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673440" cy="5111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4643280" y="1413000"/>
            <a:ext cx="352908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hangements de la température et de précipitations caractérisés par des incertitudes sur :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l’ampleur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le timing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40417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  <a:ea typeface="ＭＳ Ｐゴシック"/>
              </a:rPr>
              <a:t>la répartition spatiale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ussi bien que des incertitudes  relatives à la vulnérabilité.</a:t>
            </a:r>
            <a:endParaRPr b="0" lang="en-US" sz="24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Rétroactions augmentant des incertitudes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9200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a fonte de la glace/de la neige &gt; a réduit le reflet du rayonnement du soleil &gt; réchauffement accru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 dégel du pergélisol &gt; libèrent le CO2 et le CH4 &gt; accélération du réchauffement climatiqu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es températures terrestres et océaniques élevées :</a:t>
            </a: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 absorption réduite du CO2 atmosphérique</a:t>
            </a:r>
            <a:r>
              <a:rPr b="0" lang="fr-FR" sz="2400" spc="-1" strike="noStrike" baseline="-25000">
                <a:solidFill>
                  <a:srgbClr val="40417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000" y="475920"/>
            <a:ext cx="7667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66"/>
                </a:solidFill>
                <a:latin typeface="Trebuchet MS"/>
              </a:rPr>
              <a:t>Incertitudes dans la gestion environnementale </a:t>
            </a:r>
            <a:r>
              <a:rPr b="0" lang="en-US" sz="1400" spc="-1" strike="noStrike">
                <a:solidFill>
                  <a:srgbClr val="006666"/>
                </a:solidFill>
                <a:latin typeface="Trebuchet MS"/>
              </a:rPr>
              <a:t>(Ravetz, 2005)</a:t>
            </a:r>
            <a:endParaRPr b="0" lang="en-US" sz="14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32400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Traiter progressivement de situations où les faits sont incertains, les valeurs  en conflit, les enjeux élevés et les décisions pressant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L’estimation des risques est une tâche politique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  <p:pic>
        <p:nvPicPr>
          <p:cNvPr id="99" name="Picture 5" descr="pns"/>
          <p:cNvPicPr/>
          <p:nvPr/>
        </p:nvPicPr>
        <p:blipFill>
          <a:blip r:embed="rId1"/>
          <a:stretch/>
        </p:blipFill>
        <p:spPr>
          <a:xfrm>
            <a:off x="3849840" y="1857240"/>
            <a:ext cx="5294160" cy="42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Incertitudes dans la gestion de l'eau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Incertitude, variabilité et le risque, des conséquences les plus importantes du changement climatique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Projections de changement climatique incompatibles et/ou imprécises aux échelles régionales/locale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Stationnarité  dans les systèmes de temps et d’eau ne sont plus un base fiable pour la planification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404176"/>
                </a:solidFill>
                <a:latin typeface="Trebuchet MS"/>
              </a:rPr>
              <a:t>L'expérience du passé n'est plus un guide fiable pour l'avenir</a:t>
            </a:r>
            <a:r>
              <a:rPr b="1" i="1" lang="en-GB" sz="2400" spc="-1" strike="noStrike">
                <a:solidFill>
                  <a:srgbClr val="404176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62028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Défis dans la gestion de l'eau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7561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méliorer les prévisions (échelles temporelles/spatiales requises par les gestionnaires de l'eau)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Collaboration/communication entre les communautés  de gestion du climat et des ressources en eau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15360" indent="-315360">
              <a:spcBef>
                <a:spcPts val="601"/>
              </a:spcBef>
              <a:buClr>
                <a:srgbClr val="babe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Gestion adaptative :</a:t>
            </a:r>
            <a:r>
              <a:rPr b="0" lang="fr-FR" sz="2800" spc="-1" strike="noStrike">
                <a:solidFill>
                  <a:srgbClr val="404176"/>
                </a:solidFill>
                <a:latin typeface="Trebuchet MS"/>
              </a:rPr>
              <a:t> </a:t>
            </a:r>
            <a:r>
              <a:rPr b="0" lang="fr-FR" sz="2400" spc="-1" strike="noStrike">
                <a:solidFill>
                  <a:srgbClr val="404176"/>
                </a:solidFill>
                <a:latin typeface="Trebuchet MS"/>
              </a:rPr>
              <a:t>approches adaptatives et souples pour mieux aider à faire face aux développements incertains contre  la retrouvaille de solutions optimums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404176"/>
                </a:solidFill>
                <a:latin typeface="Trebuchet MS"/>
              </a:rPr>
              <a:t>Flexibilité institutionnelle et un rôle central des parties prenantes.</a:t>
            </a: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176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7640" y="189000"/>
            <a:ext cx="6840360" cy="104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66"/>
                </a:solidFill>
                <a:latin typeface="Trebuchet MS"/>
              </a:rPr>
              <a:t>Typologie des incertitudes : Du `sachant sûrement' à ‘l'inconnu'</a:t>
            </a:r>
            <a:endParaRPr b="0" lang="en-US" sz="2800" spc="-1" strike="noStrike">
              <a:solidFill>
                <a:srgbClr val="00666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2781360"/>
            <a:ext cx="8208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Statistique :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-26568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Rime avec la probabilité, chances, probabilités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-26568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Suppose que les modèles  sous-jacents sont adéquats, représentent des données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Scénario :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-26568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Séries de résultats possibles : `Que dire si ?'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Reconnu :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-26568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présent, mais ne peut pas être estimé (chaos, processus inconnus)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-265680">
              <a:spcBef>
                <a:spcPts val="499"/>
              </a:spcBef>
              <a:buClr>
                <a:srgbClr val="babe9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176"/>
                </a:solidFill>
                <a:latin typeface="Trebuchet MS"/>
              </a:rPr>
              <a:t>Aucun consensus scientifique, par exemple élévation accélérée de niveau de la mer, circulation thermohaline océanique à l'arrêt.</a:t>
            </a: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176"/>
              </a:solidFill>
              <a:latin typeface="Trebuchet MS"/>
            </a:endParaRPr>
          </a:p>
        </p:txBody>
      </p:sp>
      <p:sp>
        <p:nvSpPr>
          <p:cNvPr id="106" name="AutoShape 48"/>
          <p:cNvSpPr/>
          <p:nvPr/>
        </p:nvSpPr>
        <p:spPr>
          <a:xfrm>
            <a:off x="1357200" y="1928880"/>
            <a:ext cx="5133960" cy="704880"/>
          </a:xfrm>
          <a:prstGeom prst="rightArrow">
            <a:avLst>
              <a:gd name="adj1" fmla="val 54954"/>
              <a:gd name="adj2" fmla="val 90470"/>
            </a:avLst>
          </a:prstGeom>
          <a:solidFill>
            <a:srgbClr val="365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07" name="Text Box 47"/>
          <p:cNvSpPr/>
          <p:nvPr/>
        </p:nvSpPr>
        <p:spPr>
          <a:xfrm>
            <a:off x="1357200" y="2071800"/>
            <a:ext cx="1114560" cy="399960"/>
          </a:xfrm>
          <a:prstGeom prst="rect">
            <a:avLst/>
          </a:prstGeom>
          <a:solidFill>
            <a:srgbClr val="b8cc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certitude statistique</a:t>
            </a: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08" name="Text Box 46"/>
          <p:cNvSpPr/>
          <p:nvPr/>
        </p:nvSpPr>
        <p:spPr>
          <a:xfrm>
            <a:off x="3000240" y="2071800"/>
            <a:ext cx="1114560" cy="399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ncertitude de sc</a:t>
            </a:r>
            <a:r>
              <a:rPr b="0" lang="en-GB" sz="10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nario</a:t>
            </a: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09" name="Text Box 45"/>
          <p:cNvSpPr/>
          <p:nvPr/>
        </p:nvSpPr>
        <p:spPr>
          <a:xfrm>
            <a:off x="4284720" y="2205000"/>
            <a:ext cx="1377720" cy="1000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Ignorance identifi</a:t>
            </a:r>
            <a:r>
              <a:rPr b="0" lang="en-GB" sz="1000" spc="-1" strike="noStrike">
                <a:solidFill>
                  <a:srgbClr val="ffffff"/>
                </a:solidFill>
                <a:latin typeface="Book Antiqua"/>
              </a:rPr>
              <a:t>é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3514680" y="739800"/>
            <a:ext cx="1028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Ignorance totale</a:t>
            </a:r>
            <a:endParaRPr b="0" lang="en-US" sz="8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383ad"/>
              </a:solidFill>
              <a:latin typeface="Book Antiqu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56840" y="2071440"/>
            <a:ext cx="720" cy="400320"/>
            <a:chOff x="1356840" y="2071440"/>
            <a:chExt cx="720" cy="400320"/>
          </a:xfrm>
        </p:grpSpPr>
        <p:cxnSp>
          <p:nvCxnSpPr>
            <p:cNvPr id="112" name="AutoShape 43"/>
            <p:cNvCxnSpPr/>
            <p:nvPr/>
          </p:nvCxnSpPr>
          <p:spPr>
            <a:xfrm>
              <a:off x="1356840" y="2071440"/>
              <a:ext cx="1080" cy="400680"/>
            </a:xfrm>
            <a:prstGeom prst="straightConnector1">
              <a:avLst/>
            </a:prstGeom>
            <a:ln w="19080">
              <a:solidFill>
                <a:srgbClr val="e36c0a"/>
              </a:solidFill>
              <a:miter/>
            </a:ln>
          </p:spPr>
        </p:cxnSp>
        <p:sp>
          <p:nvSpPr>
            <p:cNvPr id="113" name=""/>
            <p:cNvSpPr txBox="1"/>
            <p:nvPr/>
          </p:nvSpPr>
          <p:spPr>
            <a:xfrm>
              <a:off x="1356840" y="2071440"/>
              <a:ext cx="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57440" y="2071440"/>
            <a:ext cx="720" cy="400320"/>
            <a:chOff x="4357440" y="2071440"/>
            <a:chExt cx="720" cy="400320"/>
          </a:xfrm>
        </p:grpSpPr>
        <p:cxnSp>
          <p:nvCxnSpPr>
            <p:cNvPr id="115" name="AutoShape 42"/>
            <p:cNvCxnSpPr/>
            <p:nvPr/>
          </p:nvCxnSpPr>
          <p:spPr>
            <a:xfrm>
              <a:off x="4357440" y="2071440"/>
              <a:ext cx="1080" cy="400680"/>
            </a:xfrm>
            <a:prstGeom prst="straightConnector1">
              <a:avLst/>
            </a:prstGeom>
            <a:ln w="19080">
              <a:solidFill>
                <a:srgbClr val="e36c0a"/>
              </a:solidFill>
              <a:miter/>
            </a:ln>
          </p:spPr>
        </p:cxnSp>
        <p:sp>
          <p:nvSpPr>
            <p:cNvPr id="116" name=""/>
            <p:cNvSpPr txBox="1"/>
            <p:nvPr/>
          </p:nvSpPr>
          <p:spPr>
            <a:xfrm>
              <a:off x="4357440" y="2071440"/>
              <a:ext cx="360" cy="39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8383ad"/>
                </a:solidFill>
                <a:latin typeface="Book Antiqua"/>
              </a:endParaRPr>
            </a:p>
          </p:txBody>
        </p:sp>
      </p:grpSp>
      <p:sp>
        <p:nvSpPr>
          <p:cNvPr id="117" name="Text Box 41"/>
          <p:cNvSpPr/>
          <p:nvPr/>
        </p:nvSpPr>
        <p:spPr>
          <a:xfrm>
            <a:off x="1403280" y="1928880"/>
            <a:ext cx="108756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36c0a"/>
                </a:solidFill>
                <a:latin typeface="Arial"/>
              </a:rPr>
              <a:t>Determination</a:t>
            </a: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18" name="Text Box 40"/>
          <p:cNvSpPr/>
          <p:nvPr/>
        </p:nvSpPr>
        <p:spPr>
          <a:xfrm>
            <a:off x="4356000" y="1916280"/>
            <a:ext cx="11718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e36c0a"/>
                </a:solidFill>
                <a:latin typeface="Arial"/>
              </a:rPr>
              <a:t>Interdeterminance</a:t>
            </a: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19" name="Rectangle 4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80964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600" spc="-1" strike="noStrike">
              <a:solidFill>
                <a:srgbClr val="8383ad"/>
              </a:solidFill>
              <a:latin typeface="Book Antiqu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8:23:36Z</dcterms:created>
  <dc:creator>TAPSOBA</dc:creator>
  <dc:description/>
  <dc:language>en-US</dc:language>
  <cp:lastModifiedBy>Kees Leendertse</cp:lastModifiedBy>
  <dcterms:modified xsi:type="dcterms:W3CDTF">2010-04-06T09:33:38Z</dcterms:modified>
  <cp:revision>184</cp:revision>
  <dc:subject/>
  <dc:title>Economic and Financial Instruments for IWRM</dc:title>
</cp:coreProperties>
</file>